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jeopardy-full.wav" ContentType="audio/x-wav"/>
  <Override PartName="/ppt/media/image5.wmf" ContentType="image/x-wmf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A0E0-3C0D-40FE-8C9C-5A4421D10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4366-A135-4210-8622-9A129D06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5A6-A2DB-4E42-88D7-B3618EF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C6B-00C9-4496-8227-CC04F723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D87-8AD7-40D5-B0E6-027E171C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609-20FF-4F82-A1F3-6A95F179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9F-00F9-4D2D-AC62-0735B70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2E0-5E10-4F24-BF3F-1F88B9B1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8EA-3E39-4901-966E-85E0AC7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912-3E92-4187-A1FA-222E3E1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A86-0C71-48F3-A4F8-BC8CA77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B36-0FF1-41AF-BD89-51BC04FC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0A2-3B2E-4667-8D29-02A72638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4AF2-191E-453A-942A-3081DB6C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jeopardy-full.wav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5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slide" Target="slide19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5.xml"/><Relationship Id="rId20" Type="http://schemas.openxmlformats.org/officeDocument/2006/relationships/slide" Target="slide25.xml"/><Relationship Id="rId21" Type="http://schemas.openxmlformats.org/officeDocument/2006/relationships/slide" Target="slide27.xml"/><Relationship Id="rId22" Type="http://schemas.openxmlformats.org/officeDocument/2006/relationships/slide" Target="slide27.xml"/><Relationship Id="rId23" Type="http://schemas.openxmlformats.org/officeDocument/2006/relationships/slide" Target="slide29.xml"/><Relationship Id="rId24" Type="http://schemas.openxmlformats.org/officeDocument/2006/relationships/slide" Target="slide29.xml"/><Relationship Id="rId25" Type="http://schemas.openxmlformats.org/officeDocument/2006/relationships/slide" Target="slide31.xml"/><Relationship Id="rId26" Type="http://schemas.openxmlformats.org/officeDocument/2006/relationships/slide" Target="slide31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5.xml"/><Relationship Id="rId30" Type="http://schemas.openxmlformats.org/officeDocument/2006/relationships/slide" Target="slide37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7.xml"/><Relationship Id="rId36" Type="http://schemas.openxmlformats.org/officeDocument/2006/relationships/slide" Target="slide49.xml"/><Relationship Id="rId37" Type="http://schemas.openxmlformats.org/officeDocument/2006/relationships/slide" Target="slide51.xml"/><Relationship Id="rId38" Type="http://schemas.openxmlformats.org/officeDocument/2006/relationships/slide" Target="slide53.xml"/><Relationship Id="rId39" Type="http://schemas.openxmlformats.org/officeDocument/2006/relationships/slide" Target="slide55.xml"/><Relationship Id="rId40" Type="http://schemas.openxmlformats.org/officeDocument/2006/relationships/slide" Target="slide74.xml"/><Relationship Id="rId41" Type="http://schemas.openxmlformats.org/officeDocument/2006/relationships/slide" Target="slide57.xml"/><Relationship Id="rId42" Type="http://schemas.openxmlformats.org/officeDocument/2006/relationships/slide" Target="slide59.xml"/><Relationship Id="rId43" Type="http://schemas.openxmlformats.org/officeDocument/2006/relationships/slide" Target="slide61.xml"/><Relationship Id="rId44" Type="http://schemas.openxmlformats.org/officeDocument/2006/relationships/slide" Target="slide63.xml"/><Relationship Id="rId45" Type="http://schemas.openxmlformats.org/officeDocument/2006/relationships/slide" Target="slide65.xml"/><Relationship Id="rId46" Type="http://schemas.openxmlformats.org/officeDocument/2006/relationships/slide" Target="slide67.xml"/><Relationship Id="rId47" Type="http://schemas.openxmlformats.org/officeDocument/2006/relationships/slide" Target="slide69.xml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ndes Mountai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the capital of the Incan empi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uzc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How did the Inca get all their territori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ighting battles with other trib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1430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as the Incan empire always as large as it was in the en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o, it started as a small trib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68580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oes “People everywhere buy cool apples.” stan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106668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eru, Ecuador, Bolivia, Chili, Argentin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y is so little known about the Inca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Lo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y had no system of writ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o was Manco Capac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12193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He was believed to be the first Inca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29528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empire build for pedestrians onl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2,000 miles of road way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terrace farm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914400"/>
            <a:ext cx="5867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utting terraces into the sides of mountains to create more farm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9907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Incas use for transportation, wool, and foo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llam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id the Incas worship only one god or goddes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 Histo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o, they worshiped man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05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o was Inti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12193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sun god and the father of the Incan ruler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Incas believe the rulers wer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iving go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n were religious festivals hel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ne every mon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happened at the religious celebration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762120"/>
            <a:ext cx="586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ancing, feasts, games, parades, and human sacrifi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9907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was the ruler called and how long did he rul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Relig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Inca and for lif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Inca queen was called wha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1752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coy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How was a new ruler chose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914400"/>
            <a:ext cx="7696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council of nobles picked the new ruler.  It was usually the most promising son of the coy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happened when the ruler di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91440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 new ruler got a new palace, and the old ruler was mummified and worshiped in his palace for 30 day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a mita, and what was it use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1143000"/>
            <a:ext cx="7772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 is physical labor that all men give, and it is used to build roads, palaces, and public building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did the Incas get their slav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Gover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y were captured from other tribe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were the slaves used fo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99072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o help build the roads and things and as sacrific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slaves or servants car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91440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y carried the Inca on a litter or platform and chair made of gold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n were slaves sacrifice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uring religious festiv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did the Incan servants liv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n the outside edge of the cit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2057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a litter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can Slave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1066680"/>
            <a:ext cx="586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 platform with a chair made of gold on it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144792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o is believed to be a descendent of the god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Inca or rul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11430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were religious festivals held and wh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utdoors so everyone could atten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205740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did the Incan ruler have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17524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Absolute pow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205740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at is divining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1752480"/>
            <a:ext cx="58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Studying objects to find magic sig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2" action="ppaction://hlinksldjump"/>
          </p:cNvPr>
          <p:cNvSpPr/>
          <p:nvPr/>
        </p:nvSpPr>
        <p:spPr>
          <a:xfrm>
            <a:off x="7467480" y="55627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371600" y="137160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 borla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eopardy-fu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34320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71600" y="137160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 crown worn by the Inc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761760" cy="533160"/>
          </a:xfrm>
          <a:custGeom>
            <a:avLst/>
            <a:gdLst>
              <a:gd name="textAreaLeft" fmla="*/ 34560 w 761760"/>
              <a:gd name="textAreaRight" fmla="*/ 727200 w 761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18926" y="10800"/>
                </a:moveTo>
                <a:lnTo>
                  <a:pt x="8421" y="17806"/>
                </a:lnTo>
                <a:lnTo>
                  <a:pt x="8421" y="3794"/>
                </a:lnTo>
                <a:close/>
              </a:path>
              <a:path fill="darken" w="30855" h="21600">
                <a:moveTo>
                  <a:pt x="20772" y="3794"/>
                </a:moveTo>
                <a:lnTo>
                  <a:pt x="20772" y="17806"/>
                </a:lnTo>
                <a:lnTo>
                  <a:pt x="22434" y="17806"/>
                </a:lnTo>
                <a:lnTo>
                  <a:pt x="22434" y="37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689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89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189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 Locat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162000" y="129528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162000" y="243828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6" action="ppaction://hlinksldjump"/>
          </p:cNvPr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8" action="ppaction://hlinksldjump"/>
          </p:cNvPr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3" action="ppaction://hlinksldjump"/>
          </p:cNvPr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5" action="ppaction://hlinksldjump"/>
          </p:cNvPr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7" action="ppaction://hlinksldjump"/>
          </p:cNvPr>
          <p:cNvSpPr/>
          <p:nvPr/>
        </p:nvSpPr>
        <p:spPr>
          <a:xfrm>
            <a:off x="1685880" y="35784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9" action="ppaction://hlinksldjump"/>
          </p:cNvPr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1" action="ppaction://hlinksldjump"/>
          </p:cNvPr>
          <p:cNvSpPr/>
          <p:nvPr/>
        </p:nvSpPr>
        <p:spPr>
          <a:xfrm>
            <a:off x="1685880" y="58644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3" action="ppaction://hlinksldjump"/>
          </p:cNvPr>
          <p:cNvSpPr/>
          <p:nvPr/>
        </p:nvSpPr>
        <p:spPr>
          <a:xfrm>
            <a:off x="3209760" y="1279440"/>
            <a:ext cx="120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5" action="ppaction://hlinksldjump"/>
          </p:cNvPr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7" action="ppaction://hlinksldjump"/>
          </p:cNvPr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9" action="ppaction://hlinksldjump"/>
          </p:cNvPr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0" action="ppaction://hlinksldjump"/>
          </p:cNvPr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1" action="ppaction://hlinksldjump"/>
          </p:cNvPr>
          <p:cNvSpPr/>
          <p:nvPr/>
        </p:nvSpPr>
        <p:spPr>
          <a:xfrm>
            <a:off x="4724280" y="1292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32" action="ppaction://hlinksldjump"/>
          </p:cNvPr>
          <p:cNvSpPr/>
          <p:nvPr/>
        </p:nvSpPr>
        <p:spPr>
          <a:xfrm>
            <a:off x="4724280" y="2435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3" action="ppaction://hlinksldjump"/>
          </p:cNvPr>
          <p:cNvSpPr/>
          <p:nvPr/>
        </p:nvSpPr>
        <p:spPr>
          <a:xfrm>
            <a:off x="4734000" y="35784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4" action="ppaction://hlinksldjump"/>
          </p:cNvPr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5" action="ppaction://hlinksldjump"/>
          </p:cNvPr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6" action="ppaction://hlinksldjump"/>
          </p:cNvPr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7" action="ppaction://hlinksldjump"/>
          </p:cNvPr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8" action="ppaction://hlinksldjump"/>
          </p:cNvPr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9" action="ppaction://hlinksldjump"/>
          </p:cNvPr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1" action="ppaction://hlinksldjump"/>
          </p:cNvPr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2" action="ppaction://hlinksldjump"/>
          </p:cNvPr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3" action="ppaction://hlinksldjump"/>
          </p:cNvPr>
          <p:cNvSpPr/>
          <p:nvPr/>
        </p:nvSpPr>
        <p:spPr>
          <a:xfrm>
            <a:off x="7791480" y="243540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4" action="ppaction://hlinksldjump"/>
          </p:cNvPr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5" action="ppaction://hlinksldjump"/>
          </p:cNvPr>
          <p:cNvSpPr/>
          <p:nvPr/>
        </p:nvSpPr>
        <p:spPr>
          <a:xfrm>
            <a:off x="7791480" y="472140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6" action="ppaction://hlinksldjump"/>
          </p:cNvPr>
          <p:cNvSpPr/>
          <p:nvPr/>
        </p:nvSpPr>
        <p:spPr>
          <a:xfrm>
            <a:off x="7791480" y="586440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7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 Histo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n Religi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.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n Slav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can Governmen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143000"/>
            <a:ext cx="685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Where did the Incan civilization beg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Donna leBretton</dc:creator>
  <dc:description/>
  <dc:language>en-US</dc:language>
  <cp:lastModifiedBy>Norma</cp:lastModifiedBy>
  <dcterms:modified xsi:type="dcterms:W3CDTF">2007-11-04T22:51:47Z</dcterms:modified>
  <cp:revision>98</cp:revision>
  <dc:subject/>
  <dc:title>Jeopardy</dc:title>
</cp:coreProperties>
</file>